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6DF-CFC0-4F65-8FB6-AA82BAAA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6584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312-02B4-4CCF-809C-5FDAC49B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72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BFC-A5AC-4F2C-9C5C-2329E94C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972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972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D9C-DB4E-4587-97C9-0651CF81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F102-AED5-4CC6-ADF9-0A7BDFBA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FE2F-0288-48D2-A27E-F8C0E9B0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D1B9-D82A-4F46-80B2-2774320C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9BBC-4BE7-4010-B442-8110A1F5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9564-FC0A-4E89-81B5-44019EB8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8580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DC08-788C-4CD7-81C9-295E33DA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68B8-E628-4F5F-8C02-79C2D8C1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E344-BE01-4B46-937E-F516FB9B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98B1-624B-462D-9BF3-BE9305B3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3BE2-9751-4DA5-B7F6-CA6C00E1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6584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CAF1-BD0C-4E92-859B-C086267B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297D-CB6B-45FC-9FD9-DD566645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ACE7-25C1-49C1-8213-8906B934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7D1B-E4B9-4ECD-937A-B393E891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C25-B05C-4D3A-BE66-5F5CDDEB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762-E484-400D-A030-1E87462C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8580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7C9-509E-410E-A007-60904D1E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877-2760-42BB-9DFF-C9BF6A93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72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7E9-2429-4FF9-9338-8515D296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306-8077-4073-90FB-17A00DA3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2225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09600" y="6400800"/>
            <a:ext cx="3390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800"/>
            <a:ext cx="200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9434-D716-4754-82E3-F1413719579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38d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8d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2971440" y="64008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38d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8d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400800"/>
            <a:ext cx="1917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38d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4F0B-9162-42E5-82D3-9D09304A7C4D}" type="slidenum">
              <a:rPr b="1" lang="en-US" sz="1400" spc="-1" strike="noStrike">
                <a:solidFill>
                  <a:srgbClr val="238d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2361960" y="1828800"/>
            <a:ext cx="6095880" cy="96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image" Target="../media/image8.pct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61960" y="1828800"/>
            <a:ext cx="6095880" cy="96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14400" y="1371600"/>
            <a:ext cx="7467480" cy="19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halkboard Bold"/>
              </a:rPr>
              <a:t>First things to do in an emergency!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halkboard Bold"/>
              <a:ea typeface="Chalkboard Bold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8120" y="4038480"/>
            <a:ext cx="327636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halkboard Bold"/>
              </a:rPr>
              <a:t>By: Kaylor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halkboard Bold"/>
              <a:ea typeface="Chalkboard Bold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943600" y="4800600"/>
            <a:ext cx="2527200" cy="1509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halkboard Bold"/>
              </a:rPr>
              <a:t>First Step in an Emergency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Recognize that an emergency exis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Decide to a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Call the local emergency number for hel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Provide care until help arrives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00400" y="4114800"/>
            <a:ext cx="1905120" cy="1081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778960" y="349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halkboard Bold"/>
              </a:rPr>
              <a:t>First Step in an Emergency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To be effective In an emergency you must act quickly and carefull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You can use your senses to make a difference and save a lif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152360" cy="1533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62720" y="4648320"/>
            <a:ext cx="1100160" cy="1463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114800" y="4648320"/>
            <a:ext cx="1146240" cy="1463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590920" y="4800600"/>
            <a:ext cx="1309680" cy="1252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914400" y="4800600"/>
            <a:ext cx="1371600" cy="12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halkboard Bold"/>
              </a:rPr>
              <a:t>First Step in an Emergency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 Bold"/>
              </a:rPr>
              <a:t>Be careful with their specific injury, some emergencies may require the patient to remain still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3276720" cy="2490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halkboard Bold"/>
              </a:rPr>
              <a:t>First Step in an Emergency 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Be careful and stay calm in case of emergency, and make sure to get the person to safet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00400" y="4038480"/>
            <a:ext cx="2681280" cy="1928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3:11:03Z</dcterms:created>
  <dc:creator>kms kms</dc:creator>
  <dc:description/>
  <dc:language>en-US</dc:language>
  <cp:lastModifiedBy>Kraybill Campus LMS</cp:lastModifiedBy>
  <dcterms:modified xsi:type="dcterms:W3CDTF">2011-05-26T15:51:32Z</dcterms:modified>
  <cp:revision>23</cp:revision>
  <dc:subject/>
  <dc:title>PowerPoint Presentation</dc:title>
</cp:coreProperties>
</file>